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FA4-3222-4E01-BE7F-44D55520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A0E-99CF-417E-ADE0-E3CFB83A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0D2-245A-4CF9-BAF0-F3F04DEE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8A5-C18B-4AB5-99CC-0EC34CBE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211-C4DA-4F7D-9F7D-79A1A14E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357-A4B4-4DCA-9535-1D07C121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32C-AD07-42C9-BE7F-FE722989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CBA-FF95-471B-8A2E-F52085F7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A25-8BDD-4CE9-AAE2-1A2BAEA5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589-36BD-4195-AEAD-ED648ABD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D78-8134-45E2-A9BB-50FA5D3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196-ECCF-41FF-B7A4-493BFCE1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17AE-BBC4-456A-8F99-666E989636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ebspace.ship.edu/cgboer/bandura.html" TargetMode="External"/><Relationship Id="rId2" Type="http://schemas.openxmlformats.org/officeDocument/2006/relationships/hyperlink" Target="http://psychclassics.yorku.ca/Bandura/bobo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Albert Band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y: Luis Diego Or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andura"/>
          <p:cNvPicPr/>
          <p:nvPr/>
        </p:nvPicPr>
        <p:blipFill>
          <a:blip r:embed="rId1"/>
          <a:stretch/>
        </p:blipFill>
        <p:spPr>
          <a:xfrm>
            <a:off x="2895480" y="1219320"/>
            <a:ext cx="3052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Bobo Doll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is experiment was done in 1961 to try to prove Bandura’s belief that all human behavior was learned through social imitation rather than inherited by genetic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study"/>
          <p:cNvPicPr/>
          <p:nvPr/>
        </p:nvPicPr>
        <p:blipFill>
          <a:blip r:embed="rId1"/>
          <a:stretch/>
        </p:blipFill>
        <p:spPr>
          <a:xfrm>
            <a:off x="4419720" y="2362320"/>
            <a:ext cx="4419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t was done to prove that in this case children would copy an adult’s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y using aggresive and non-aggresive factors he wanted to prove that a child would tend to copy tha action and behavior of an ad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xperiment"/>
          <p:cNvPicPr/>
          <p:nvPr/>
        </p:nvPicPr>
        <p:blipFill>
          <a:blip r:embed="rId1"/>
          <a:stretch/>
        </p:blipFill>
        <p:spPr>
          <a:xfrm>
            <a:off x="4267080" y="1219320"/>
            <a:ext cx="472464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ildren were chosen for this experiment because they have less knowledge about social rules and conditioning of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 bobo doll is an inflatable toy designed to spring back upright when knocked o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niño"/>
          <p:cNvPicPr/>
          <p:nvPr/>
        </p:nvPicPr>
        <p:blipFill>
          <a:blip r:embed="rId1"/>
          <a:stretch/>
        </p:blipFill>
        <p:spPr>
          <a:xfrm>
            <a:off x="3962520" y="2209680"/>
            <a:ext cx="49528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Hypothesis and Pred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ndura predicted that children witnessing an adult in an aggresive manner would likely replicate his actions even if the adult was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ildren who had witnessed a non-aggresive adult would show little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doll"/>
          <p:cNvPicPr/>
          <p:nvPr/>
        </p:nvPicPr>
        <p:blipFill>
          <a:blip r:embed="rId1"/>
          <a:stretch/>
        </p:blipFill>
        <p:spPr>
          <a:xfrm>
            <a:off x="4648320" y="1828800"/>
            <a:ext cx="41338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elieved that children would copy the behavior of a model of their same s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ith this he wanted to show that children identified themselves easier with their same gen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t but not least, male children would react more violent than female children because men in  society are more aggresive than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r"/>
          <p:cNvPicPr/>
          <p:nvPr/>
        </p:nvPicPr>
        <p:blipFill>
          <a:blip r:embed="rId1"/>
          <a:stretch/>
        </p:blipFill>
        <p:spPr>
          <a:xfrm>
            <a:off x="4419720" y="1219320"/>
            <a:ext cx="453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Setting th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lected children from the nursing school in Stanford University from a range of 3 to 6 years, with the average being 4 years and 4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icked 36 subjects of each sex to test gender aggr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oll2"/>
          <p:cNvPicPr/>
          <p:nvPr/>
        </p:nvPicPr>
        <p:blipFill>
          <a:blip r:embed="rId1"/>
          <a:stretch/>
        </p:blipFill>
        <p:spPr>
          <a:xfrm>
            <a:off x="4267080" y="1523880"/>
            <a:ext cx="4419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control group that would not see an adult model at all was made up of 12 boys and 12 gir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second group which would be exposed to an adult showing aggresive tendencies was made up of 24 children of either s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doll3"/>
          <p:cNvPicPr/>
          <p:nvPr/>
        </p:nvPicPr>
        <p:blipFill>
          <a:blip r:embed="rId1"/>
          <a:stretch/>
        </p:blipFill>
        <p:spPr>
          <a:xfrm>
            <a:off x="4419720" y="1027080"/>
            <a:ext cx="4572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oth of the resulting groups of 12 were di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lf would be tested with a female role model and the other half with a male rol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third group was arranged the same way but they were exposed to a passive ad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doll5"/>
          <p:cNvPicPr/>
          <p:nvPr/>
        </p:nvPicPr>
        <p:blipFill>
          <a:blip r:embed="rId1"/>
          <a:stretch/>
        </p:blipFill>
        <p:spPr>
          <a:xfrm>
            <a:off x="4800600" y="1447920"/>
            <a:ext cx="3786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y already knew which kids were more aggresive than others so this also helped them divide the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ach of them were tested individually so they won’t affect the reactions of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y"/>
          <p:cNvPicPr/>
          <p:nvPr/>
        </p:nvPicPr>
        <p:blipFill>
          <a:blip r:embed="rId1"/>
          <a:stretch/>
        </p:blipFill>
        <p:spPr>
          <a:xfrm>
            <a:off x="4343400" y="1066680"/>
            <a:ext cx="4635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 child was taken into a room and sat in a corner with some toys which they weren’t allowed to play wi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 the children in group two the adult would begin to physically and verbally attack the doll for a period of 1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k"/>
          <p:cNvPicPr/>
          <p:nvPr/>
        </p:nvPicPr>
        <p:blipFill>
          <a:blip r:embed="rId1"/>
          <a:stretch/>
        </p:blipFill>
        <p:spPr>
          <a:xfrm>
            <a:off x="4495680" y="380880"/>
            <a:ext cx="4418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orn December 4, 1925 in a small town of Mundare in northern Alberta,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stly immigrants from Poland Ukraine lived in this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Youngest child and only boy of the six children of Eastern European d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little al"/>
          <p:cNvPicPr/>
          <p:nvPr/>
        </p:nvPicPr>
        <p:blipFill>
          <a:blip r:embed="rId1"/>
          <a:stretch/>
        </p:blipFill>
        <p:spPr>
          <a:xfrm>
            <a:off x="5105520" y="1447920"/>
            <a:ext cx="289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 the third group the adult would sit quietly and peacefully played with the toys for ten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control group sat 10 minutes in the room with no adul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hola2"/>
          <p:cNvPicPr/>
          <p:nvPr/>
        </p:nvPicPr>
        <p:blipFill>
          <a:blip r:embed="rId1"/>
          <a:stretch/>
        </p:blipFill>
        <p:spPr>
          <a:xfrm>
            <a:off x="4419720" y="2209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n they were taken to another room in which there were interesting toys which they were prohibited to play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y told them that the toys were reserved for another kid so their frustration would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n they were taken to another room with aggresive and non-aggresive toys and they were wacthed through a one way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toy"/>
          <p:cNvPicPr/>
          <p:nvPr/>
        </p:nvPicPr>
        <p:blipFill>
          <a:blip r:embed="rId1"/>
          <a:stretch/>
        </p:blipFill>
        <p:spPr>
          <a:xfrm>
            <a:off x="4572000" y="685800"/>
            <a:ext cx="39117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hildren who were exposed to the aggresive model were more likely to imitate the aggresive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oys were nearly three times more aggresive than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 levels of verbal aggresion were mostly seen to the subjects presented with violent rol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"/>
          <p:cNvPicPr/>
          <p:nvPr/>
        </p:nvPicPr>
        <p:blipFill>
          <a:blip r:embed="rId1"/>
          <a:stretch/>
        </p:blipFill>
        <p:spPr>
          <a:xfrm>
            <a:off x="4038480" y="2743200"/>
            <a:ext cx="49532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hildren exposed to the non-aggresive model or no model, showed little imitative aggresive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le subjects exposed to non-aggresive models were less likely to use the mallet to hit the Bobo Doll. Male subjects placed with non-aggresive female models were more likely to use the mallet than the contro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"/>
          <p:cNvPicPr/>
          <p:nvPr/>
        </p:nvPicPr>
        <p:blipFill>
          <a:blip r:embed="rId1"/>
          <a:stretch/>
        </p:blipFill>
        <p:spPr>
          <a:xfrm>
            <a:off x="5029200" y="1447920"/>
            <a:ext cx="322884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www.youtube.com/watch?v=vdh7Mngn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space.ship.edu/cgboer/bandur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sychclassics.yorku.ca/Bandura/bob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des.emory.edu/mfp/bandurabi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experiment-resources.com/bobo-doll-experim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youtube.com/watch?v=vdh7Mngn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criminology.fsu.edu/crimtheory/bandur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psychology.about.com/od/profilesofmajorthinkers/p/bio_bandur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learning-theories.com/social-learning-theory-bandur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s father was from Poland and worked in the trans-Canada railroad and his mother came from Ukraine and worked in the town’s general st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y did not have a good education but his father taught himself how to speak Polish, Russian and G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y saved enough money to buy a homestead and with their own hands change it to a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bandura5"/>
          <p:cNvPicPr/>
          <p:nvPr/>
        </p:nvPicPr>
        <p:blipFill>
          <a:blip r:embed="rId1"/>
          <a:stretch/>
        </p:blipFill>
        <p:spPr>
          <a:xfrm>
            <a:off x="4952880" y="762120"/>
            <a:ext cx="36655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ementary’s and High School years were spent at the only school in t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dn’t have  many teachers so they left the initiative of their education to thei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oven"/>
          <p:cNvPicPr/>
          <p:nvPr/>
        </p:nvPicPr>
        <p:blipFill>
          <a:blip r:embed="rId1"/>
          <a:stretch/>
        </p:blipFill>
        <p:spPr>
          <a:xfrm>
            <a:off x="4724280" y="1295280"/>
            <a:ext cx="33735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wo teachers handled the entire high school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students had to take charge of their own education” Bandura once 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uring summer he was encouraged by his parents to search for boundaries outside their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carpenter"/>
          <p:cNvPicPr/>
          <p:nvPr/>
        </p:nvPicPr>
        <p:blipFill>
          <a:blip r:embed="rId1"/>
          <a:stretch/>
        </p:blipFill>
        <p:spPr>
          <a:xfrm>
            <a:off x="4419720" y="1371600"/>
            <a:ext cx="44956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nce he worked in a furniture manufacturing plant in Edmon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is experience supported him through college which he sometimes worked as a 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fter his high school graduation he went to the University of British Columbia in which Bandura’s career came by ch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l"/>
          <p:cNvPicPr/>
          <p:nvPr/>
        </p:nvPicPr>
        <p:blipFill>
          <a:blip r:embed="rId1"/>
          <a:stretch/>
        </p:blipFill>
        <p:spPr>
          <a:xfrm>
            <a:off x="4572000" y="762120"/>
            <a:ext cx="394668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"One morning, I was wasting time in the library. Someone had forgotten to return a course catalog and I thumbed through it attempting to find a filler course to occupy the early time slot. I noticed a course in psychology that would serve as excellent filler. It sparked my interest and I found my career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ola"/>
          <p:cNvPicPr/>
          <p:nvPr/>
        </p:nvPicPr>
        <p:blipFill>
          <a:blip r:embed="rId1"/>
          <a:stretch/>
        </p:blipFill>
        <p:spPr>
          <a:xfrm>
            <a:off x="4572000" y="838080"/>
            <a:ext cx="3925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fter graduating, Bandura went to the Univeristy of Iowa to study in the department of 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ndura learned to play golf which at the end led to an important part of hi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owa"/>
          <p:cNvPicPr/>
          <p:nvPr/>
        </p:nvPicPr>
        <p:blipFill>
          <a:blip r:embed="rId1"/>
          <a:stretch/>
        </p:blipFill>
        <p:spPr>
          <a:xfrm>
            <a:off x="4419720" y="1600200"/>
            <a:ext cx="4419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W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ne Sunday he was late to the golf course with his friend and they bumped with two attractive women in a sand tr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ne of this woman is called Virginia Varns who was studying on the teaching staff of the College of Nurs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hey married in 1952 and became the parents to two daughters, Mary, who was born in 1954 and Carol born in 195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banduraa"/>
          <p:cNvPicPr/>
          <p:nvPr/>
        </p:nvPicPr>
        <p:blipFill>
          <a:blip r:embed="rId1"/>
          <a:stretch/>
        </p:blipFill>
        <p:spPr>
          <a:xfrm>
            <a:off x="4419720" y="2209680"/>
            <a:ext cx="4419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3:23:56Z</dcterms:created>
  <dc:creator>monica castañeda</dc:creator>
  <dc:description/>
  <dc:language>en-US</dc:language>
  <cp:lastModifiedBy>Comp13</cp:lastModifiedBy>
  <dcterms:modified xsi:type="dcterms:W3CDTF">2009-11-25T14:24:31Z</dcterms:modified>
  <cp:revision>3</cp:revision>
  <dc:subject/>
  <dc:title>Albert Bandura</dc:title>
</cp:coreProperties>
</file>